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434F-2F13-4C19-AA48-04AC1356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nhm.ac.uk/about-us/news/2012/january/naming-new-plant-species-moves-online10742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cs.whfreeman.com/thelifewire8e/content/cat_010/f3500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bhs-sbi3u03.wikispaces.com/Transport+In+Vascular+Plants+(Sug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ic.edu/classes/bios/bios100/lectures/ps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ctxel.com/flower-part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airieplant.com/biosecure-growth-chamb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geopolicraticus.wordpress.com/tag/ecological-success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ps.plants.ox.ac.uk/langdalelab/evodev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web.uwlax.edu/bio203/s2012/harris_gran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pinterest.com/pin/15101139372631419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biologyjunction.com/plant_structure_bi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plant_structure_bi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dox/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ixgood.com/monocots-and-dicots-roo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B74-0B92-49C6-B189-FCD0CB4F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DED-1EBB-48CE-948C-DAECEADC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4E6-EE63-4224-BD0F-71DFC068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6D0-65F0-4E12-88C2-C65C68D7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5B1-0820-4B9A-9E03-5EFDD13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953-6EBC-4092-BB26-6417EC2E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FF6-E397-4DB2-8D9C-7E82A5E5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5F7-A6AB-4709-81AE-CAAE5F6F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60D-A4F8-4B97-AE06-4CF5B7F7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AC8-D227-4654-B30D-D19FA2F2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A39-ECBB-4A05-BACB-97A46C2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D62-1A21-465A-917D-51F531B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76BA-2490-4B43-8644-A9AD08876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, an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 br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76200" y="1600200"/>
            <a:ext cx="6589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 in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81400" y="1523880"/>
            <a:ext cx="453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ross-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5400" y="1828800"/>
            <a:ext cx="7000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46040" y="1981080"/>
            <a:ext cx="645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87520" y="1981080"/>
            <a:ext cx="616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504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992240"/>
            <a:ext cx="838224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9360" y="1981080"/>
            <a:ext cx="624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2 major groups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c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o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ich inclu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dic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35240" y="3048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874880"/>
            <a:ext cx="86104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90600"/>
            <a:ext cx="777240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4960" y="1676520"/>
            <a:ext cx="853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: Monocot or Dic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254320"/>
            <a:ext cx="777240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04:14:37Z</dcterms:created>
  <dc:creator>rubina khan</dc:creator>
  <dc:description/>
  <dc:language>en-US</dc:language>
  <cp:lastModifiedBy>rubina khan</cp:lastModifiedBy>
  <dcterms:modified xsi:type="dcterms:W3CDTF">2015-01-16T11:41:02Z</dcterms:modified>
  <cp:revision>30</cp:revision>
  <dc:subject/>
  <dc:title>Plants</dc:title>
</cp:coreProperties>
</file>